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2906280" y="225360"/>
            <a:ext cx="3645000" cy="2733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hdr"/>
          </p:nvPr>
        </p:nvSpPr>
        <p:spPr>
          <a:xfrm>
            <a:off x="28368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Futura Hv"/>
                <a:ea typeface="굴림"/>
              </a:rPr>
              <a:t>Presentation Tit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Bk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4"/>
          </p:nvPr>
        </p:nvSpPr>
        <p:spPr>
          <a:xfrm>
            <a:off x="275760" y="8918640"/>
            <a:ext cx="5807160" cy="2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000000"/>
                </a:solidFill>
                <a:latin typeface="Futura Hv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Futura Hv"/>
                <a:ea typeface="굴림"/>
              </a:rPr>
              <a:t>Copyright © 2003 HP corporate presentation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5"/>
          </p:nvPr>
        </p:nvSpPr>
        <p:spPr>
          <a:xfrm>
            <a:off x="6206760" y="8929440"/>
            <a:ext cx="38268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800" spc="-1" strike="noStrike">
                <a:solidFill>
                  <a:srgbClr val="000000"/>
                </a:solidFill>
                <a:latin typeface="Futura Bk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63FFA-A1D0-4B92-80E8-08EE044FC2A7}" type="slidenum">
              <a:rPr b="0" lang="ko-KR" sz="800" spc="-1" strike="noStrike">
                <a:solidFill>
                  <a:srgbClr val="000000"/>
                </a:solidFill>
                <a:latin typeface="Futura Bk"/>
                <a:ea typeface="굴림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Futura Hv"/>
                <a:ea typeface="굴림"/>
              </a:rPr>
              <a:t>Presentation Title</a:t>
            </a: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Rectangle 10"/>
          <p:cNvSpPr/>
          <p:nvPr/>
        </p:nvSpPr>
        <p:spPr>
          <a:xfrm>
            <a:off x="276120" y="8918640"/>
            <a:ext cx="580716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Futura Hv"/>
                <a:ea typeface="굴림"/>
              </a:rPr>
              <a:t>Copyright © 2003 HP corporate presentation. All rights reserved.</a:t>
            </a: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9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BC703-A763-44F5-A6CF-5BC596346BA1}" type="slidenum">
              <a:rPr b="0" lang="ko-KR" sz="800" spc="-1" strike="noStrike">
                <a:solidFill>
                  <a:srgbClr val="000000"/>
                </a:solidFill>
                <a:latin typeface="Futura Bk"/>
                <a:ea typeface="굴림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EA99-9879-4022-80A9-CDEBA2418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9600" y="40737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555D-7C9C-4AD4-BA86-58C3DF5CA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8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ED58-2EE5-4684-A1AA-759804000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68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40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996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68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40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E563-C689-4D02-B9A6-5BBD959D7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28400" y="114120"/>
            <a:ext cx="7629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20C8-1291-4C03-824F-1AC04B696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38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99600" y="40737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38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968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940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996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968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940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EE4B-C66D-4D5A-8C1B-9C8A9E41E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2C81-B5E9-45B5-9A78-EE59F0305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DC3A-B417-49A5-BDE3-0C130D56F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28400" y="114120"/>
            <a:ext cx="7629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C595-92F4-436F-9981-7653FD6AC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F42D-7C96-4851-837C-98D122FC9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8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54A5-E144-480E-8717-2EC94630D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208F-8942-4E79-8E9B-FA7ED225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93640" y="6629040"/>
            <a:ext cx="146376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900" spc="-1" strike="noStrike">
                <a:solidFill>
                  <a:srgbClr val="848589"/>
                </a:solidFill>
                <a:latin typeface="Futura Bk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E9B27-AA0A-4C61-BDE2-DE3441513264}" type="datetime">
              <a:rPr b="0" lang="ko-KR" sz="900" spc="-1" strike="noStrike">
                <a:solidFill>
                  <a:srgbClr val="848589"/>
                </a:solidFill>
                <a:latin typeface="Futura Bk"/>
                <a:ea typeface="굴림"/>
              </a:rPr>
              <a:t>26年 7月 29日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133720" y="6629040"/>
            <a:ext cx="487656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900" spc="-1" strike="noStrike">
                <a:solidFill>
                  <a:srgbClr val="848589"/>
                </a:solidFill>
                <a:latin typeface="Futura Bk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848589"/>
                </a:solidFill>
                <a:latin typeface="Futura Bk"/>
                <a:ea typeface="굴림"/>
              </a:rPr>
              <a:t>Copyright © 2003 HP corporate presentatio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229240" y="6629040"/>
            <a:ext cx="76212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900" spc="-1" strike="noStrike">
                <a:solidFill>
                  <a:srgbClr val="848589"/>
                </a:solidFill>
                <a:latin typeface="Futura Bk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F1873-0BE5-476C-97A8-B59665DD7FE3}" type="slidenum">
              <a:rPr b="0" lang="ko-KR" sz="900" spc="-1" strike="noStrike">
                <a:solidFill>
                  <a:srgbClr val="848589"/>
                </a:solidFill>
                <a:latin typeface="Futura Bk"/>
                <a:ea typeface="굴림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1171440"/>
            <a:ext cx="257040" cy="5686560"/>
          </a:xfrm>
          <a:prstGeom prst="rect">
            <a:avLst/>
          </a:prstGeom>
          <a:solidFill>
            <a:srgbClr val="0071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1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0"/>
            <a:ext cx="257040" cy="1114560"/>
          </a:xfrm>
          <a:prstGeom prst="rect">
            <a:avLst/>
          </a:prstGeom>
          <a:solidFill>
            <a:srgbClr val="0071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1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lvl="3" marL="125748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lvl="4" marL="16002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lvl="5" marL="16002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000000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  <a:p>
            <a:pPr lvl="6" marL="16002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000000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7" name="Picture 10" descr="bulletlogo_black_03"/>
          <p:cNvPicPr/>
          <p:nvPr/>
        </p:nvPicPr>
        <p:blipFill>
          <a:blip r:embed="rId2"/>
          <a:stretch/>
        </p:blipFill>
        <p:spPr>
          <a:xfrm>
            <a:off x="8229600" y="228600"/>
            <a:ext cx="739800" cy="628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6426360" y="0"/>
            <a:ext cx="2717640" cy="6858000"/>
          </a:xfrm>
          <a:prstGeom prst="rect">
            <a:avLst/>
          </a:prstGeom>
          <a:solidFill>
            <a:srgbClr val="00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1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Picture 3" descr="blue bar"/>
          <p:cNvPicPr/>
          <p:nvPr/>
        </p:nvPicPr>
        <p:blipFill>
          <a:blip r:embed="rId2"/>
          <a:stretch/>
        </p:blipFill>
        <p:spPr>
          <a:xfrm>
            <a:off x="0" y="0"/>
            <a:ext cx="6369120" cy="48099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6"/>
          <p:cNvSpPr/>
          <p:nvPr/>
        </p:nvSpPr>
        <p:spPr>
          <a:xfrm>
            <a:off x="441360" y="649296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utura Bk"/>
                <a:ea typeface="굴림"/>
              </a:rPr>
              <a:t>© 2010 Hewlett-Packard Development Company, L.P.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Futura Bk"/>
                <a:ea typeface="굴림"/>
              </a:rPr>
              <a:t>The information contained herein is subject to change without notice 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7" name="Picture 8" descr="plushp"/>
          <p:cNvPicPr/>
          <p:nvPr/>
        </p:nvPicPr>
        <p:blipFill>
          <a:blip r:embed="rId3"/>
          <a:stretch/>
        </p:blipFill>
        <p:spPr>
          <a:xfrm>
            <a:off x="6389640" y="4097160"/>
            <a:ext cx="2486160" cy="1919520"/>
          </a:xfrm>
          <a:prstGeom prst="rect">
            <a:avLst/>
          </a:prstGeom>
          <a:ln w="0">
            <a:noFill/>
          </a:ln>
        </p:spPr>
      </p:pic>
      <p:sp>
        <p:nvSpPr>
          <p:cNvPr id="48" name="Line 9"/>
          <p:cNvSpPr/>
          <p:nvPr/>
        </p:nvSpPr>
        <p:spPr>
          <a:xfrm>
            <a:off x="6265800" y="4816440"/>
            <a:ext cx="1792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3" marL="125748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4" marL="16002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5" marL="16002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fffff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6" marL="16002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fffff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15440" y="1843200"/>
            <a:ext cx="5651640" cy="235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5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선 결제 파트 환불 절차</a:t>
            </a:r>
            <a:endParaRPr b="0" lang="en-US" sz="35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4" name="Rectangle 11"/>
          <p:cNvSpPr/>
          <p:nvPr/>
        </p:nvSpPr>
        <p:spPr>
          <a:xfrm>
            <a:off x="577800" y="5110200"/>
            <a:ext cx="3003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PC Support Team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Consumer Suppor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IPG/HP Korea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Rectangle 12"/>
          <p:cNvSpPr/>
          <p:nvPr/>
        </p:nvSpPr>
        <p:spPr>
          <a:xfrm>
            <a:off x="8400960" y="6581880"/>
            <a:ext cx="69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Futura Bk"/>
                <a:ea typeface="굴림"/>
              </a:rPr>
              <a:t>Ver 1.1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2"/>
          <p:cNvSpPr/>
          <p:nvPr/>
        </p:nvSpPr>
        <p:spPr>
          <a:xfrm>
            <a:off x="488880" y="843120"/>
            <a:ext cx="69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</a:rPr>
              <a:t>1. </a:t>
            </a:r>
            <a:r>
              <a:rPr b="1" lang="ko-KR" sz="1800" spc="-1" strike="noStrike">
                <a:solidFill>
                  <a:srgbClr val="000000"/>
                </a:solidFill>
                <a:latin typeface="맑은 고딕"/>
              </a:rPr>
              <a:t>선 입금 후 고객카드 모바일 결재 시 환불 절차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TextBox 49"/>
          <p:cNvSpPr/>
          <p:nvPr/>
        </p:nvSpPr>
        <p:spPr>
          <a:xfrm>
            <a:off x="426960" y="1328760"/>
            <a:ext cx="842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파트 신청 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계좌 입금을 통해 선 결제를 하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후 고객 카드를 이용하여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모바일 결제를 한경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아래 와 같은 절차로 계좌 입금한 금액에 대해 환불 가능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8" name="직사각형 57"/>
          <p:cNvSpPr/>
          <p:nvPr/>
        </p:nvSpPr>
        <p:spPr>
          <a:xfrm>
            <a:off x="697680" y="1930320"/>
            <a:ext cx="1966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14"/>
              </a:spcBef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▶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첨부파일 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환불신청서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재결재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)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작성</a:t>
            </a: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Text Box 169"/>
          <p:cNvSpPr/>
          <p:nvPr/>
        </p:nvSpPr>
        <p:spPr>
          <a:xfrm>
            <a:off x="3502080" y="2673360"/>
            <a:ext cx="5622840" cy="25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689"/>
              </a:spcBef>
              <a:spcAft>
                <a:spcPts val="13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고객카드 결제가 확인되지 않을 경우 환불 불가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689"/>
              </a:spcBef>
              <a:spcAft>
                <a:spcPts val="13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환불신청서를 작성 후 메일로 보내 주셔야 환불 진행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. (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파일명 뒤 서비스 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ID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기입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689"/>
              </a:spcBef>
              <a:spcAft>
                <a:spcPts val="13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입금 후 </a:t>
            </a:r>
            <a:r>
              <a:rPr b="1" lang="en-US" sz="1200" spc="-1" strike="noStrike">
                <a:solidFill>
                  <a:srgbClr val="2990ca"/>
                </a:solidFill>
                <a:latin typeface="맑은 고딕"/>
              </a:rPr>
              <a:t>10</a:t>
            </a:r>
            <a:r>
              <a:rPr b="1" lang="ko-KR" sz="1200" spc="-1" strike="noStrike">
                <a:solidFill>
                  <a:srgbClr val="2990ca"/>
                </a:solidFill>
                <a:latin typeface="맑은 고딕"/>
              </a:rPr>
              <a:t>일 이내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에 환불요청을 하셔야 환불처리 가능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689"/>
              </a:spcBef>
              <a:spcAft>
                <a:spcPts val="13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유상자재 미사용 반납시 작성하는 환불신청서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취소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)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는 입금 후 </a:t>
            </a:r>
            <a:r>
              <a:rPr b="1" lang="en-US" sz="1200" spc="-1" strike="noStrike">
                <a:solidFill>
                  <a:srgbClr val="2990ca"/>
                </a:solidFill>
                <a:latin typeface="맑은 고딕"/>
              </a:rPr>
              <a:t>7</a:t>
            </a:r>
            <a:r>
              <a:rPr b="1" lang="ko-KR" sz="1200" spc="-1" strike="noStrike">
                <a:solidFill>
                  <a:srgbClr val="2990ca"/>
                </a:solidFill>
                <a:latin typeface="맑은 고딕"/>
              </a:rPr>
              <a:t>일 이내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에 환불 요청을 하셔야 환불처리 가능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689"/>
              </a:spcBef>
              <a:spcAft>
                <a:spcPts val="13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자재 미사용으로 인한 환불 시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파트 반납이 완료 되야 </a:t>
            </a: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689"/>
              </a:spcBef>
              <a:spcAft>
                <a:spcPts val="13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지점 선 결제 시 현금 입금 하면 위와 같은 복잡한 절차를 거쳐야 하니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,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     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</a:rPr>
              <a:t>반드시 카드로 결제 부탁 드립니다</a:t>
            </a:r>
            <a:r>
              <a:rPr b="0" lang="en-US" sz="11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1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2990ca"/>
                </a:solidFill>
                <a:latin typeface="맑은 고딕"/>
              </a:rPr>
              <a:t>자재과 메일 </a:t>
            </a:r>
            <a:r>
              <a:rPr b="1" lang="en-US" sz="1200" spc="-1" strike="noStrike">
                <a:solidFill>
                  <a:srgbClr val="2990ca"/>
                </a:solidFill>
                <a:latin typeface="맑은 고딕"/>
              </a:rPr>
              <a:t>: Part@wepeed.co.kr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직사각형 61"/>
          <p:cNvSpPr/>
          <p:nvPr/>
        </p:nvSpPr>
        <p:spPr>
          <a:xfrm>
            <a:off x="5901840" y="2144880"/>
            <a:ext cx="65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맑은 고딕"/>
              </a:rPr>
              <a:t>주의 사항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TextBox 2"/>
          <p:cNvSpPr/>
          <p:nvPr/>
        </p:nvSpPr>
        <p:spPr>
          <a:xfrm>
            <a:off x="412920" y="228600"/>
            <a:ext cx="6986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000000"/>
                </a:solidFill>
                <a:latin typeface="맑은 고딕"/>
              </a:rPr>
              <a:t>선 입금 비용 환불 절차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Picture 54" descr=""/>
          <p:cNvPicPr/>
          <p:nvPr/>
        </p:nvPicPr>
        <p:blipFill>
          <a:blip r:embed="rId1"/>
          <a:stretch/>
        </p:blipFill>
        <p:spPr>
          <a:xfrm>
            <a:off x="458640" y="2198520"/>
            <a:ext cx="3043440" cy="43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2"/>
          <p:cNvSpPr/>
          <p:nvPr/>
        </p:nvSpPr>
        <p:spPr>
          <a:xfrm>
            <a:off x="412920" y="297000"/>
            <a:ext cx="698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2.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</a:rPr>
              <a:t>환불 신청서 작성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</a:rPr>
              <a:t>유상자재 모바일 카드결제 시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4" name="AutoShape 12"/>
          <p:cNvSpPr/>
          <p:nvPr/>
        </p:nvSpPr>
        <p:spPr>
          <a:xfrm>
            <a:off x="4726080" y="1352520"/>
            <a:ext cx="4149720" cy="484200"/>
          </a:xfrm>
          <a:prstGeom prst="roundRect">
            <a:avLst>
              <a:gd name="adj" fmla="val 23282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88"/>
              </a:spcBef>
              <a:spcAft>
                <a:spcPts val="1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AutoShape 13"/>
          <p:cNvSpPr/>
          <p:nvPr/>
        </p:nvSpPr>
        <p:spPr>
          <a:xfrm>
            <a:off x="4827600" y="1405080"/>
            <a:ext cx="398772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c547c"/>
              </a:gs>
              <a:gs pos="100000">
                <a:srgbClr val="1d93d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88"/>
              </a:spcBef>
              <a:spcAft>
                <a:spcPts val="1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grpSp>
        <p:nvGrpSpPr>
          <p:cNvPr id="106" name="그룹 15"/>
          <p:cNvGrpSpPr/>
          <p:nvPr/>
        </p:nvGrpSpPr>
        <p:grpSpPr>
          <a:xfrm>
            <a:off x="4726080" y="1898640"/>
            <a:ext cx="4151160" cy="2082960"/>
            <a:chOff x="4726080" y="1898640"/>
            <a:chExt cx="4151160" cy="2082960"/>
          </a:xfrm>
        </p:grpSpPr>
        <p:sp>
          <p:nvSpPr>
            <p:cNvPr id="107" name="AutoShape 14"/>
            <p:cNvSpPr/>
            <p:nvPr/>
          </p:nvSpPr>
          <p:spPr>
            <a:xfrm>
              <a:off x="4726080" y="1898640"/>
              <a:ext cx="4151160" cy="2082960"/>
            </a:xfrm>
            <a:prstGeom prst="roundRect">
              <a:avLst>
                <a:gd name="adj" fmla="val 6898"/>
              </a:avLst>
            </a:prstGeom>
            <a:solidFill>
              <a:srgbClr val="c0c0c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88"/>
                </a:spcBef>
                <a:spcAft>
                  <a:spcPts val="162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  <p:sp>
          <p:nvSpPr>
            <p:cNvPr id="108" name="AutoShape 15"/>
            <p:cNvSpPr/>
            <p:nvPr/>
          </p:nvSpPr>
          <p:spPr>
            <a:xfrm>
              <a:off x="4818240" y="1963800"/>
              <a:ext cx="3964320" cy="1952280"/>
            </a:xfrm>
            <a:prstGeom prst="roundRect">
              <a:avLst>
                <a:gd name="adj" fmla="val 615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88"/>
                </a:spcBef>
                <a:spcAft>
                  <a:spcPts val="162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  <p:sp>
          <p:nvSpPr>
            <p:cNvPr id="109" name="Text Box 22"/>
            <p:cNvSpPr/>
            <p:nvPr/>
          </p:nvSpPr>
          <p:spPr>
            <a:xfrm>
              <a:off x="4873680" y="2093760"/>
              <a:ext cx="3767040" cy="137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488"/>
                </a:spcBef>
                <a:spcAft>
                  <a:spcPts val="16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맑은 고딕"/>
                </a:rPr>
                <a:t>》 </a:t>
              </a: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지점명 </a:t>
              </a:r>
              <a:r>
                <a:rPr b="0" lang="en-US" sz="1300" spc="-1" strike="noStrike">
                  <a:solidFill>
                    <a:srgbClr val="000000"/>
                  </a:solidFill>
                  <a:latin typeface="맑은 고딕"/>
                </a:rPr>
                <a:t>(</a:t>
              </a: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신청지점 정보</a:t>
              </a:r>
              <a:r>
                <a:rPr b="0" lang="en-US" sz="1300" spc="-1" strike="noStrike">
                  <a:solidFill>
                    <a:srgbClr val="000000"/>
                  </a:solidFill>
                  <a:latin typeface="맑은 고딕"/>
                </a:rPr>
                <a:t>)</a:t>
              </a:r>
              <a:endParaRPr b="0" lang="en-US" sz="1300" spc="-1" strike="noStrike">
                <a:solidFill>
                  <a:srgbClr val="000000"/>
                </a:solidFill>
                <a:latin typeface="맑은 고딕"/>
              </a:endParaRPr>
            </a:p>
            <a:p>
              <a:pPr>
                <a:lnSpc>
                  <a:spcPct val="130000"/>
                </a:lnSpc>
                <a:spcBef>
                  <a:spcPts val="488"/>
                </a:spcBef>
                <a:spcAft>
                  <a:spcPts val="16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맑은 고딕"/>
                </a:rPr>
                <a:t>》 </a:t>
              </a: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고객명</a:t>
              </a:r>
              <a:r>
                <a:rPr b="0" lang="en-US" sz="1300" spc="-1" strike="noStrike">
                  <a:solidFill>
                    <a:srgbClr val="000000"/>
                  </a:solidFill>
                  <a:latin typeface="맑은 고딕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맑은 고딕"/>
                </a:rPr>
                <a:t>(</a:t>
              </a: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웹 상의 고객명</a:t>
              </a:r>
              <a:r>
                <a:rPr b="0" lang="en-US" sz="1300" spc="-1" strike="noStrike">
                  <a:solidFill>
                    <a:srgbClr val="000000"/>
                  </a:solidFill>
                  <a:latin typeface="맑은 고딕"/>
                </a:rPr>
                <a:t>)</a:t>
              </a:r>
              <a:endParaRPr b="0" lang="en-US" sz="1300" spc="-1" strike="noStrike">
                <a:solidFill>
                  <a:srgbClr val="000000"/>
                </a:solidFill>
                <a:latin typeface="맑은 고딕"/>
              </a:endParaRPr>
            </a:p>
            <a:p>
              <a:pPr>
                <a:lnSpc>
                  <a:spcPct val="130000"/>
                </a:lnSpc>
                <a:spcBef>
                  <a:spcPts val="488"/>
                </a:spcBef>
                <a:spcAft>
                  <a:spcPts val="16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맑은 고딕"/>
                </a:rPr>
                <a:t>》 </a:t>
              </a: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입금내역 </a:t>
              </a:r>
              <a:r>
                <a:rPr b="0" lang="en-US" sz="1300" spc="-1" strike="noStrike">
                  <a:solidFill>
                    <a:srgbClr val="000000"/>
                  </a:solidFill>
                  <a:latin typeface="맑은 고딕"/>
                </a:rPr>
                <a:t>(</a:t>
              </a: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센터에서 계좌입금한 날짜 및 비용</a:t>
              </a:r>
              <a:r>
                <a:rPr b="0" lang="en-US" sz="1300" spc="-1" strike="noStrike">
                  <a:solidFill>
                    <a:srgbClr val="000000"/>
                  </a:solidFill>
                  <a:latin typeface="맑은 고딕"/>
                </a:rPr>
                <a:t>)</a:t>
              </a:r>
              <a:endParaRPr b="0" lang="en-US" sz="1300" spc="-1" strike="noStrike">
                <a:solidFill>
                  <a:srgbClr val="000000"/>
                </a:solidFill>
                <a:latin typeface="맑은 고딕"/>
              </a:endParaRPr>
            </a:p>
            <a:p>
              <a:pPr>
                <a:lnSpc>
                  <a:spcPct val="130000"/>
                </a:lnSpc>
                <a:spcBef>
                  <a:spcPts val="488"/>
                </a:spcBef>
                <a:spcAft>
                  <a:spcPts val="16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맑은 고딕"/>
                </a:rPr>
                <a:t>》 </a:t>
              </a: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결제내역 </a:t>
              </a:r>
              <a:r>
                <a:rPr b="0" lang="en-US" sz="1300" spc="-1" strike="noStrike">
                  <a:solidFill>
                    <a:srgbClr val="000000"/>
                  </a:solidFill>
                  <a:latin typeface="맑은 고딕"/>
                </a:rPr>
                <a:t>(</a:t>
              </a: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고객카드 모바일 결제 정보 입력</a:t>
              </a:r>
              <a:r>
                <a:rPr b="0" lang="en-US" sz="1300" spc="-1" strike="noStrike">
                  <a:solidFill>
                    <a:srgbClr val="000000"/>
                  </a:solidFill>
                  <a:latin typeface="맑은 고딕"/>
                </a:rPr>
                <a:t>)</a:t>
              </a:r>
              <a:endParaRPr b="0" lang="en-US" sz="13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sp>
        <p:nvSpPr>
          <p:cNvPr id="110" name="Rectangle 26"/>
          <p:cNvSpPr/>
          <p:nvPr/>
        </p:nvSpPr>
        <p:spPr>
          <a:xfrm>
            <a:off x="5487840" y="1440000"/>
            <a:ext cx="2617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88"/>
              </a:spcBef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ffffff"/>
                </a:solidFill>
                <a:latin typeface="맑은 고딕"/>
              </a:rPr>
              <a:t>고객 정보 </a:t>
            </a:r>
            <a:r>
              <a:rPr b="1" lang="en-US" sz="1300" spc="-1" strike="noStrike">
                <a:solidFill>
                  <a:srgbClr val="ffffff"/>
                </a:solidFill>
                <a:latin typeface="맑은 고딕"/>
              </a:rPr>
              <a:t>/ </a:t>
            </a:r>
            <a:r>
              <a:rPr b="1" lang="ko-KR" sz="1300" spc="-1" strike="noStrike">
                <a:solidFill>
                  <a:srgbClr val="ffffff"/>
                </a:solidFill>
                <a:latin typeface="맑은 고딕"/>
              </a:rPr>
              <a:t>입금 정보</a:t>
            </a:r>
            <a:endParaRPr b="0" lang="en-US" sz="13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1" name="AutoShape 8"/>
          <p:cNvSpPr/>
          <p:nvPr/>
        </p:nvSpPr>
        <p:spPr>
          <a:xfrm>
            <a:off x="4726080" y="4432320"/>
            <a:ext cx="4190760" cy="484200"/>
          </a:xfrm>
          <a:prstGeom prst="roundRect">
            <a:avLst>
              <a:gd name="adj" fmla="val 23282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88"/>
              </a:spcBef>
              <a:spcAft>
                <a:spcPts val="1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4811760" y="4483080"/>
            <a:ext cx="405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15146"/>
              </a:gs>
              <a:gs pos="100000">
                <a:srgbClr val="5a8e7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88"/>
              </a:spcBef>
              <a:spcAft>
                <a:spcPts val="1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grpSp>
        <p:nvGrpSpPr>
          <p:cNvPr id="113" name="그룹 30"/>
          <p:cNvGrpSpPr/>
          <p:nvPr/>
        </p:nvGrpSpPr>
        <p:grpSpPr>
          <a:xfrm>
            <a:off x="4724280" y="4976640"/>
            <a:ext cx="4194360" cy="1151280"/>
            <a:chOff x="4724280" y="4976640"/>
            <a:chExt cx="4194360" cy="1151280"/>
          </a:xfrm>
        </p:grpSpPr>
        <p:sp>
          <p:nvSpPr>
            <p:cNvPr id="114" name="AutoShape 10"/>
            <p:cNvSpPr/>
            <p:nvPr/>
          </p:nvSpPr>
          <p:spPr>
            <a:xfrm>
              <a:off x="4724280" y="4976640"/>
              <a:ext cx="4194360" cy="1151280"/>
            </a:xfrm>
            <a:prstGeom prst="roundRect">
              <a:avLst>
                <a:gd name="adj" fmla="val 6898"/>
              </a:avLst>
            </a:prstGeom>
            <a:solidFill>
              <a:srgbClr val="c0c0c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88"/>
                </a:spcBef>
                <a:spcAft>
                  <a:spcPts val="162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  <p:sp>
          <p:nvSpPr>
            <p:cNvPr id="115" name="AutoShape 11"/>
            <p:cNvSpPr/>
            <p:nvPr/>
          </p:nvSpPr>
          <p:spPr>
            <a:xfrm>
              <a:off x="4819680" y="5012640"/>
              <a:ext cx="4005720" cy="1079280"/>
            </a:xfrm>
            <a:prstGeom prst="roundRect">
              <a:avLst>
                <a:gd name="adj" fmla="val 615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88"/>
                </a:spcBef>
                <a:spcAft>
                  <a:spcPts val="162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  <p:sp>
          <p:nvSpPr>
            <p:cNvPr id="116" name="Text Box 21"/>
            <p:cNvSpPr/>
            <p:nvPr/>
          </p:nvSpPr>
          <p:spPr>
            <a:xfrm>
              <a:off x="4878000" y="5055840"/>
              <a:ext cx="3956400" cy="103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488"/>
                </a:spcBef>
                <a:spcAft>
                  <a:spcPts val="16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맑은 고딕"/>
                </a:rPr>
                <a:t>》 </a:t>
              </a: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환불 받을 은행 계좌 및 계좌 번호 입력</a:t>
              </a:r>
              <a:endParaRPr b="0" lang="en-US" sz="1300" spc="-1" strike="noStrike">
                <a:solidFill>
                  <a:srgbClr val="000000"/>
                </a:solidFill>
                <a:latin typeface="맑은 고딕"/>
              </a:endParaRPr>
            </a:p>
            <a:p>
              <a:pPr>
                <a:lnSpc>
                  <a:spcPct val="130000"/>
                </a:lnSpc>
                <a:spcBef>
                  <a:spcPts val="488"/>
                </a:spcBef>
                <a:spcAft>
                  <a:spcPts val="16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맑은 고딕"/>
                </a:rPr>
                <a:t>》 </a:t>
              </a: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환불 계좌 예금주 </a:t>
              </a:r>
              <a:endParaRPr b="0" lang="en-US" sz="1300" spc="-1" strike="noStrike">
                <a:solidFill>
                  <a:srgbClr val="000000"/>
                </a:solidFill>
                <a:latin typeface="맑은 고딕"/>
              </a:endParaRPr>
            </a:p>
            <a:p>
              <a:pPr>
                <a:lnSpc>
                  <a:spcPct val="130000"/>
                </a:lnSpc>
                <a:spcBef>
                  <a:spcPts val="488"/>
                </a:spcBef>
                <a:spcAft>
                  <a:spcPts val="16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맑은 고딕"/>
                </a:rPr>
                <a:t>》 </a:t>
              </a: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신청일 </a:t>
              </a:r>
              <a:r>
                <a:rPr b="0" lang="en-US" sz="1300" spc="-1" strike="noStrike">
                  <a:solidFill>
                    <a:srgbClr val="000000"/>
                  </a:solidFill>
                  <a:latin typeface="맑은 고딕"/>
                </a:rPr>
                <a:t>(</a:t>
              </a: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환불신청일 입력</a:t>
              </a:r>
              <a:r>
                <a:rPr b="0" lang="en-US" sz="1300" spc="-1" strike="noStrike">
                  <a:solidFill>
                    <a:srgbClr val="000000"/>
                  </a:solidFill>
                  <a:latin typeface="맑은 고딕"/>
                </a:rPr>
                <a:t>)</a:t>
              </a:r>
              <a:endParaRPr b="0" lang="en-US" sz="13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sp>
        <p:nvSpPr>
          <p:cNvPr id="117" name="Rectangle 25"/>
          <p:cNvSpPr/>
          <p:nvPr/>
        </p:nvSpPr>
        <p:spPr>
          <a:xfrm>
            <a:off x="6159600" y="4519440"/>
            <a:ext cx="14205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88"/>
              </a:spcBef>
              <a:spcAft>
                <a:spcPts val="1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ffffff"/>
                </a:solidFill>
                <a:latin typeface="맑은 고딕"/>
              </a:rPr>
              <a:t>환불 정보</a:t>
            </a:r>
            <a:endParaRPr b="0" lang="en-US" sz="13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8" name="TextBox 49"/>
          <p:cNvSpPr/>
          <p:nvPr/>
        </p:nvSpPr>
        <p:spPr>
          <a:xfrm>
            <a:off x="862200" y="773280"/>
            <a:ext cx="22089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88"/>
              </a:spcBef>
              <a:spcAft>
                <a:spcPts val="1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</a:rPr>
              <a:t>첨부 파일의 환불신청서</a:t>
            </a:r>
            <a:r>
              <a:rPr b="0" lang="en-US" sz="13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</a:rPr>
              <a:t>재결재</a:t>
            </a:r>
            <a:r>
              <a:rPr b="0" lang="en-US" sz="1300" spc="-1" strike="noStrike">
                <a:solidFill>
                  <a:srgbClr val="000000"/>
                </a:solidFill>
                <a:latin typeface="맑은 고딕"/>
              </a:rPr>
              <a:t>)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</a:rPr>
              <a:t>작성</a:t>
            </a:r>
            <a:endParaRPr b="0" lang="en-US" sz="13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9" name="Picture 54" descr=""/>
          <p:cNvPicPr/>
          <p:nvPr/>
        </p:nvPicPr>
        <p:blipFill>
          <a:blip r:embed="rId1"/>
          <a:stretch/>
        </p:blipFill>
        <p:spPr>
          <a:xfrm>
            <a:off x="504720" y="1081080"/>
            <a:ext cx="3854520" cy="554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2"/>
          <p:cNvSpPr/>
          <p:nvPr/>
        </p:nvSpPr>
        <p:spPr>
          <a:xfrm>
            <a:off x="412920" y="297000"/>
            <a:ext cx="698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3.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</a:rPr>
              <a:t>환불 신청서 작성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</a:rPr>
              <a:t>유상자재 미사용 시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1" name="AutoShape 12"/>
          <p:cNvSpPr/>
          <p:nvPr/>
        </p:nvSpPr>
        <p:spPr>
          <a:xfrm>
            <a:off x="4726080" y="1349280"/>
            <a:ext cx="4149720" cy="484200"/>
          </a:xfrm>
          <a:prstGeom prst="roundRect">
            <a:avLst>
              <a:gd name="adj" fmla="val 23282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88"/>
              </a:spcBef>
              <a:spcAft>
                <a:spcPts val="1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2" name="AutoShape 13"/>
          <p:cNvSpPr/>
          <p:nvPr/>
        </p:nvSpPr>
        <p:spPr>
          <a:xfrm>
            <a:off x="4818240" y="1398600"/>
            <a:ext cx="398772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c547c"/>
              </a:gs>
              <a:gs pos="100000">
                <a:srgbClr val="1d93d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88"/>
              </a:spcBef>
              <a:spcAft>
                <a:spcPts val="1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Rectangle 26"/>
          <p:cNvSpPr/>
          <p:nvPr/>
        </p:nvSpPr>
        <p:spPr>
          <a:xfrm>
            <a:off x="5481720" y="1432080"/>
            <a:ext cx="26175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88"/>
              </a:spcBef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ffffff"/>
                </a:solidFill>
                <a:latin typeface="맑은 고딕"/>
              </a:rPr>
              <a:t>고객 정보 </a:t>
            </a:r>
            <a:r>
              <a:rPr b="1" lang="en-US" sz="1300" spc="-1" strike="noStrike">
                <a:solidFill>
                  <a:srgbClr val="ffffff"/>
                </a:solidFill>
                <a:latin typeface="맑은 고딕"/>
              </a:rPr>
              <a:t>/ </a:t>
            </a:r>
            <a:r>
              <a:rPr b="1" lang="ko-KR" sz="1300" spc="-1" strike="noStrike">
                <a:solidFill>
                  <a:srgbClr val="ffffff"/>
                </a:solidFill>
                <a:latin typeface="맑은 고딕"/>
              </a:rPr>
              <a:t>입금 정보</a:t>
            </a:r>
            <a:endParaRPr b="0" lang="en-US" sz="13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4" name="AutoShape 8"/>
          <p:cNvSpPr/>
          <p:nvPr/>
        </p:nvSpPr>
        <p:spPr>
          <a:xfrm>
            <a:off x="4726080" y="4432320"/>
            <a:ext cx="4190760" cy="484200"/>
          </a:xfrm>
          <a:prstGeom prst="roundRect">
            <a:avLst>
              <a:gd name="adj" fmla="val 23282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88"/>
              </a:spcBef>
              <a:spcAft>
                <a:spcPts val="1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5" name="AutoShape 9"/>
          <p:cNvSpPr/>
          <p:nvPr/>
        </p:nvSpPr>
        <p:spPr>
          <a:xfrm>
            <a:off x="4811760" y="4483080"/>
            <a:ext cx="4051080" cy="380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15146"/>
              </a:gs>
              <a:gs pos="100000">
                <a:srgbClr val="5a8e7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88"/>
              </a:spcBef>
              <a:spcAft>
                <a:spcPts val="1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grpSp>
        <p:nvGrpSpPr>
          <p:cNvPr id="126" name="그룹 30"/>
          <p:cNvGrpSpPr/>
          <p:nvPr/>
        </p:nvGrpSpPr>
        <p:grpSpPr>
          <a:xfrm>
            <a:off x="4724280" y="4976640"/>
            <a:ext cx="4194360" cy="1151280"/>
            <a:chOff x="4724280" y="4976640"/>
            <a:chExt cx="4194360" cy="1151280"/>
          </a:xfrm>
        </p:grpSpPr>
        <p:sp>
          <p:nvSpPr>
            <p:cNvPr id="127" name="AutoShape 10"/>
            <p:cNvSpPr/>
            <p:nvPr/>
          </p:nvSpPr>
          <p:spPr>
            <a:xfrm>
              <a:off x="4724280" y="4976640"/>
              <a:ext cx="4194360" cy="1151280"/>
            </a:xfrm>
            <a:prstGeom prst="roundRect">
              <a:avLst>
                <a:gd name="adj" fmla="val 6898"/>
              </a:avLst>
            </a:prstGeom>
            <a:solidFill>
              <a:srgbClr val="c0c0c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88"/>
                </a:spcBef>
                <a:spcAft>
                  <a:spcPts val="162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  <p:sp>
          <p:nvSpPr>
            <p:cNvPr id="128" name="AutoShape 11"/>
            <p:cNvSpPr/>
            <p:nvPr/>
          </p:nvSpPr>
          <p:spPr>
            <a:xfrm>
              <a:off x="4819680" y="5012640"/>
              <a:ext cx="4005720" cy="1079280"/>
            </a:xfrm>
            <a:prstGeom prst="roundRect">
              <a:avLst>
                <a:gd name="adj" fmla="val 615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88"/>
                </a:spcBef>
                <a:spcAft>
                  <a:spcPts val="162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  <p:sp>
          <p:nvSpPr>
            <p:cNvPr id="129" name="Text Box 21"/>
            <p:cNvSpPr/>
            <p:nvPr/>
          </p:nvSpPr>
          <p:spPr>
            <a:xfrm>
              <a:off x="4878000" y="5055840"/>
              <a:ext cx="3956400" cy="103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488"/>
                </a:spcBef>
                <a:spcAft>
                  <a:spcPts val="16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맑은 고딕"/>
                </a:rPr>
                <a:t>》 </a:t>
              </a: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환불 받을 은행 계좌 및 계좌 번호 입력</a:t>
              </a:r>
              <a:endParaRPr b="0" lang="en-US" sz="1300" spc="-1" strike="noStrike">
                <a:solidFill>
                  <a:srgbClr val="000000"/>
                </a:solidFill>
                <a:latin typeface="맑은 고딕"/>
              </a:endParaRPr>
            </a:p>
            <a:p>
              <a:pPr>
                <a:lnSpc>
                  <a:spcPct val="130000"/>
                </a:lnSpc>
                <a:spcBef>
                  <a:spcPts val="488"/>
                </a:spcBef>
                <a:spcAft>
                  <a:spcPts val="16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맑은 고딕"/>
                </a:rPr>
                <a:t>》 </a:t>
              </a: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환불 계좌 예금주 </a:t>
              </a:r>
              <a:endParaRPr b="0" lang="en-US" sz="1300" spc="-1" strike="noStrike">
                <a:solidFill>
                  <a:srgbClr val="000000"/>
                </a:solidFill>
                <a:latin typeface="맑은 고딕"/>
              </a:endParaRPr>
            </a:p>
            <a:p>
              <a:pPr>
                <a:lnSpc>
                  <a:spcPct val="130000"/>
                </a:lnSpc>
                <a:spcBef>
                  <a:spcPts val="488"/>
                </a:spcBef>
                <a:spcAft>
                  <a:spcPts val="16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맑은 고딕"/>
                </a:rPr>
                <a:t>》 </a:t>
              </a: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신청일 </a:t>
              </a:r>
              <a:r>
                <a:rPr b="0" lang="en-US" sz="1300" spc="-1" strike="noStrike">
                  <a:solidFill>
                    <a:srgbClr val="000000"/>
                  </a:solidFill>
                  <a:latin typeface="맑은 고딕"/>
                </a:rPr>
                <a:t>(</a:t>
              </a: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환불신청일 입력</a:t>
              </a:r>
              <a:r>
                <a:rPr b="0" lang="en-US" sz="1300" spc="-1" strike="noStrike">
                  <a:solidFill>
                    <a:srgbClr val="000000"/>
                  </a:solidFill>
                  <a:latin typeface="맑은 고딕"/>
                </a:rPr>
                <a:t>)</a:t>
              </a:r>
              <a:endParaRPr b="0" lang="en-US" sz="13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sp>
        <p:nvSpPr>
          <p:cNvPr id="130" name="Rectangle 25"/>
          <p:cNvSpPr/>
          <p:nvPr/>
        </p:nvSpPr>
        <p:spPr>
          <a:xfrm>
            <a:off x="6159600" y="4519440"/>
            <a:ext cx="14205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88"/>
              </a:spcBef>
              <a:spcAft>
                <a:spcPts val="1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ffffff"/>
                </a:solidFill>
                <a:latin typeface="맑은 고딕"/>
              </a:rPr>
              <a:t>환불 정보</a:t>
            </a:r>
            <a:endParaRPr b="0" lang="en-US" sz="13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1" name="TextBox 49"/>
          <p:cNvSpPr/>
          <p:nvPr/>
        </p:nvSpPr>
        <p:spPr>
          <a:xfrm>
            <a:off x="843840" y="776160"/>
            <a:ext cx="2152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88"/>
              </a:spcBef>
              <a:spcAft>
                <a:spcPts val="1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</a:rPr>
              <a:t>첨부 파일의 환불신청서</a:t>
            </a:r>
            <a:r>
              <a:rPr b="0" lang="en-US" sz="13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</a:rPr>
              <a:t>취소</a:t>
            </a:r>
            <a:r>
              <a:rPr b="0" lang="en-US" sz="1300" spc="-1" strike="noStrike">
                <a:solidFill>
                  <a:srgbClr val="000000"/>
                </a:solidFill>
                <a:latin typeface="맑은 고딕"/>
              </a:rPr>
              <a:t>) </a:t>
            </a:r>
            <a:r>
              <a:rPr b="0" lang="ko-KR" sz="1300" spc="-1" strike="noStrike">
                <a:solidFill>
                  <a:srgbClr val="000000"/>
                </a:solidFill>
                <a:latin typeface="맑은 고딕"/>
              </a:rPr>
              <a:t>작성 </a:t>
            </a:r>
            <a:endParaRPr b="0" lang="en-US" sz="1300" spc="-1" strike="noStrike">
              <a:solidFill>
                <a:srgbClr val="000000"/>
              </a:solidFill>
              <a:latin typeface="맑은 고딕"/>
            </a:endParaRPr>
          </a:p>
        </p:txBody>
      </p:sp>
      <p:grpSp>
        <p:nvGrpSpPr>
          <p:cNvPr id="132" name="그룹 15"/>
          <p:cNvGrpSpPr/>
          <p:nvPr/>
        </p:nvGrpSpPr>
        <p:grpSpPr>
          <a:xfrm>
            <a:off x="4726080" y="1898640"/>
            <a:ext cx="4151160" cy="2075040"/>
            <a:chOff x="4726080" y="1898640"/>
            <a:chExt cx="4151160" cy="2075040"/>
          </a:xfrm>
        </p:grpSpPr>
        <p:sp>
          <p:nvSpPr>
            <p:cNvPr id="133" name="AutoShape 14"/>
            <p:cNvSpPr/>
            <p:nvPr/>
          </p:nvSpPr>
          <p:spPr>
            <a:xfrm>
              <a:off x="4726080" y="1898640"/>
              <a:ext cx="4151160" cy="2075040"/>
            </a:xfrm>
            <a:prstGeom prst="roundRect">
              <a:avLst>
                <a:gd name="adj" fmla="val 6898"/>
              </a:avLst>
            </a:prstGeom>
            <a:solidFill>
              <a:srgbClr val="c0c0c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88"/>
                </a:spcBef>
                <a:spcAft>
                  <a:spcPts val="162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  <p:sp>
          <p:nvSpPr>
            <p:cNvPr id="134" name="AutoShape 15"/>
            <p:cNvSpPr/>
            <p:nvPr/>
          </p:nvSpPr>
          <p:spPr>
            <a:xfrm>
              <a:off x="4818240" y="1963800"/>
              <a:ext cx="3964320" cy="1944720"/>
            </a:xfrm>
            <a:prstGeom prst="roundRect">
              <a:avLst>
                <a:gd name="adj" fmla="val 615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88"/>
                </a:spcBef>
                <a:spcAft>
                  <a:spcPts val="162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  <p:sp>
          <p:nvSpPr>
            <p:cNvPr id="135" name="Text Box 22"/>
            <p:cNvSpPr/>
            <p:nvPr/>
          </p:nvSpPr>
          <p:spPr>
            <a:xfrm>
              <a:off x="4873680" y="2093760"/>
              <a:ext cx="3767040" cy="137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488"/>
                </a:spcBef>
                <a:spcAft>
                  <a:spcPts val="16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맑은 고딕"/>
                </a:rPr>
                <a:t>》 </a:t>
              </a: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지점명 </a:t>
              </a:r>
              <a:r>
                <a:rPr b="0" lang="en-US" sz="1300" spc="-1" strike="noStrike">
                  <a:solidFill>
                    <a:srgbClr val="000000"/>
                  </a:solidFill>
                  <a:latin typeface="맑은 고딕"/>
                </a:rPr>
                <a:t>(</a:t>
              </a: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지점 정보 입력</a:t>
              </a:r>
              <a:r>
                <a:rPr b="0" lang="en-US" sz="1300" spc="-1" strike="noStrike">
                  <a:solidFill>
                    <a:srgbClr val="000000"/>
                  </a:solidFill>
                  <a:latin typeface="맑은 고딕"/>
                </a:rPr>
                <a:t>)</a:t>
              </a:r>
              <a:endParaRPr b="0" lang="en-US" sz="1300" spc="-1" strike="noStrike">
                <a:solidFill>
                  <a:srgbClr val="000000"/>
                </a:solidFill>
                <a:latin typeface="맑은 고딕"/>
              </a:endParaRPr>
            </a:p>
            <a:p>
              <a:pPr>
                <a:lnSpc>
                  <a:spcPct val="130000"/>
                </a:lnSpc>
                <a:spcBef>
                  <a:spcPts val="488"/>
                </a:spcBef>
                <a:spcAft>
                  <a:spcPts val="16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맑은 고딕"/>
                </a:rPr>
                <a:t>》 </a:t>
              </a: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고객명</a:t>
              </a:r>
              <a:r>
                <a:rPr b="0" lang="en-US" sz="1300" spc="-1" strike="noStrike">
                  <a:solidFill>
                    <a:srgbClr val="000000"/>
                  </a:solidFill>
                  <a:latin typeface="맑은 고딕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맑은 고딕"/>
                </a:rPr>
                <a:t>(</a:t>
              </a: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웹 상의 고객명</a:t>
              </a:r>
              <a:r>
                <a:rPr b="0" lang="en-US" sz="1300" spc="-1" strike="noStrike">
                  <a:solidFill>
                    <a:srgbClr val="000000"/>
                  </a:solidFill>
                  <a:latin typeface="맑은 고딕"/>
                </a:rPr>
                <a:t>)</a:t>
              </a:r>
              <a:endParaRPr b="0" lang="en-US" sz="1300" spc="-1" strike="noStrike">
                <a:solidFill>
                  <a:srgbClr val="000000"/>
                </a:solidFill>
                <a:latin typeface="맑은 고딕"/>
              </a:endParaRPr>
            </a:p>
            <a:p>
              <a:pPr>
                <a:lnSpc>
                  <a:spcPct val="130000"/>
                </a:lnSpc>
                <a:spcBef>
                  <a:spcPts val="488"/>
                </a:spcBef>
                <a:spcAft>
                  <a:spcPts val="16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맑은 고딕"/>
                </a:rPr>
                <a:t>》 </a:t>
              </a: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입금내역 </a:t>
              </a:r>
              <a:r>
                <a:rPr b="0" lang="en-US" sz="1300" spc="-1" strike="noStrike">
                  <a:solidFill>
                    <a:srgbClr val="000000"/>
                  </a:solidFill>
                  <a:latin typeface="맑은 고딕"/>
                </a:rPr>
                <a:t>(</a:t>
              </a: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센터에서 선 입금한 날짜 및 비용</a:t>
              </a:r>
              <a:r>
                <a:rPr b="0" lang="en-US" sz="1300" spc="-1" strike="noStrike">
                  <a:solidFill>
                    <a:srgbClr val="000000"/>
                  </a:solidFill>
                  <a:latin typeface="맑은 고딕"/>
                </a:rPr>
                <a:t>)</a:t>
              </a:r>
              <a:endParaRPr b="0" lang="en-US" sz="1300" spc="-1" strike="noStrike">
                <a:solidFill>
                  <a:srgbClr val="000000"/>
                </a:solidFill>
                <a:latin typeface="맑은 고딕"/>
              </a:endParaRPr>
            </a:p>
            <a:p>
              <a:pPr>
                <a:lnSpc>
                  <a:spcPct val="130000"/>
                </a:lnSpc>
                <a:spcBef>
                  <a:spcPts val="488"/>
                </a:spcBef>
                <a:spcAft>
                  <a:spcPts val="16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맑은 고딕"/>
                </a:rPr>
                <a:t>》 </a:t>
              </a: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반납내역 </a:t>
              </a:r>
              <a:r>
                <a:rPr b="0" lang="en-US" sz="1300" spc="-1" strike="noStrike">
                  <a:solidFill>
                    <a:srgbClr val="000000"/>
                  </a:solidFill>
                  <a:latin typeface="맑은 고딕"/>
                </a:rPr>
                <a:t>(</a:t>
              </a: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미사용 파트 반납 정보 입력</a:t>
              </a:r>
              <a:r>
                <a:rPr b="0" lang="en-US" sz="1300" spc="-1" strike="noStrike">
                  <a:solidFill>
                    <a:srgbClr val="000000"/>
                  </a:solidFill>
                  <a:latin typeface="맑은 고딕"/>
                </a:rPr>
                <a:t>)</a:t>
              </a:r>
              <a:endParaRPr b="0" lang="en-US" sz="13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pic>
        <p:nvPicPr>
          <p:cNvPr id="136" name="Picture 31" descr=""/>
          <p:cNvPicPr/>
          <p:nvPr/>
        </p:nvPicPr>
        <p:blipFill>
          <a:blip r:embed="rId1"/>
          <a:stretch/>
        </p:blipFill>
        <p:spPr>
          <a:xfrm>
            <a:off x="509760" y="1077840"/>
            <a:ext cx="384012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3T06:22:52Z</dcterms:created>
  <dc:creator>ysmrseo</dc:creator>
  <dc:description/>
  <dc:language>en-US</dc:language>
  <cp:lastModifiedBy>Bae, Jun Sung</cp:lastModifiedBy>
  <dcterms:modified xsi:type="dcterms:W3CDTF">2012-06-11T06:41:45Z</dcterms:modified>
  <cp:revision>592</cp:revision>
  <dc:subject/>
  <dc:title>HP standard light template</dc:title>
</cp:coreProperties>
</file>